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D533-2BF9-4F75-98A4-0F5D31395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BC5-5D39-4F75-9D8C-0CFDFC6B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245-E0E7-4E35-A081-144B99F7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EFD-A882-46A3-9CA2-726DBFE9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871-4000-4EF5-9FB3-DC3F2FC3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617-E273-4A9E-B558-BD94DB0E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8CBF-BAFF-4B3E-8D4F-27E42E8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F179-F407-4F71-BD91-E901CC47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0B50-41E5-47D7-BD79-B935042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F65E-59B6-4F4A-9851-AE626300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384-F634-4F7C-B715-66F6109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DF77-F0A3-47B5-9AE2-B78EB13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12E-0A7D-4742-8E39-71E153E3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5063-B93E-4E8D-9B9D-FAE3DDA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79D2-18C9-42E0-BE8C-15ECD212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72FF-0AC0-4BAA-A14D-2BCF6F2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49AF-723A-473C-A1AB-7EAA33CC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0492-7E86-4CD3-8C98-53CF1264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119-4B06-495A-8665-17F7E342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5A6-1F68-45EB-A18D-71D3E91A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3E4-5A67-4414-96C7-5D5E8D05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A3C-B825-4181-B89A-52A81FEA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285-EAEF-45FE-88D1-0DBCDA4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177-7788-40A5-87A6-D8B0CEF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23C-4952-418A-8E7E-0BFF7AC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5521-411E-4C0F-845D-B0576EE50DE5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51F8-42C0-46D3-9472-D98A362258E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6bff"/>
                </a:solidFill>
                <a:latin typeface="Bodoni SvtyTwo SC ITC TT-Book"/>
              </a:rPr>
              <a:t>The solar syste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388620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Brendan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535120"/>
            <a:ext cx="380988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ut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2409840"/>
            <a:ext cx="28018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4419720" y="2133720"/>
            <a:ext cx="3822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05160" y="1752480"/>
            <a:ext cx="228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4038480" y="18288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1269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RCUR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weigh 70 pounds on Earth, you would weigh 27 pounds on Merc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257800" y="16002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47920" y="2286000"/>
            <a:ext cx="1269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Veni 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8120" y="1963800"/>
            <a:ext cx="28018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18669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steroid Bel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1913040"/>
            <a:ext cx="2801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8:14:45Z</dcterms:created>
  <dc:creator>Kraybill Campus LMS</dc:creator>
  <dc:description/>
  <dc:language>en-US</dc:language>
  <cp:lastModifiedBy>Kraybill Campus LMS</cp:lastModifiedBy>
  <dcterms:modified xsi:type="dcterms:W3CDTF">2012-05-01T18:47:35Z</dcterms:modified>
  <cp:revision>6</cp:revision>
  <dc:subject/>
  <dc:title>The solar system</dc:title>
</cp:coreProperties>
</file>