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E98A-6A3C-4ED6-BBF0-2B87452D9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8E10-E2B1-4FDB-8083-A35841A86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61B0-7B00-489A-93FE-6A5F5B78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1457-C265-4301-B3BB-C31843EBE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8024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123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77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98024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123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5A6C-3AF5-4DC9-B089-0D2F6EA76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A2491-47B9-4275-A275-6DCE44FEC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37A78-FA60-4087-8E08-F52C7D44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5BE7-ADB7-421B-8C4D-DACE11DB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E5796-F6A7-47A5-B774-240BBB36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1798-3FC8-4C1B-BCC8-6137DFED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3805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4AF8-9E01-4F57-9B94-A72FCF43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EEBF-1D18-4BA4-8778-3C3070ED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0D6A-7A2D-4111-91DA-99A73742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600B-FAFB-4C85-935A-2CC9BC81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190D-EF03-41EC-8A79-BFC53D6A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571C-4CF8-4DB3-8E59-E72FFFA9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A5E9-16C9-45D4-8659-6B99B2FF2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8024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123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77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98024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123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489E-AA8E-41E1-B354-D712BED7E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1992-350B-40DC-B0FF-420899F2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8AC0-3479-42C0-80A1-15896BF26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1AB4-97E9-43B3-8AE0-B1375DEF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3805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4FA0-C585-4311-A815-7B84DA06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B943-AE51-40AC-AC87-CD842633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7EDC-14DA-4E8E-8110-02685E63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BAEB-A433-40FE-8905-548C66AF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9943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3921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327636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CD9E-EDD2-4AD5-A279-645E84F79FDA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1440" y="1066680"/>
            <a:ext cx="579132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8520"/>
            <a:ext cx="3048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D8F5-1C36-45A5-BE2F-8FA795313DE2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26bff"/>
                </a:solidFill>
                <a:latin typeface="Bodoni SvtyTwo SC ITC TT-Book"/>
              </a:rPr>
              <a:t>The solar system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581280" y="3886200"/>
            <a:ext cx="518184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Brendan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Neptune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960880" y="1752120"/>
            <a:ext cx="28018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57200" y="2535120"/>
            <a:ext cx="3809880" cy="33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Pluto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960880" y="1752120"/>
            <a:ext cx="28018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048120" y="2409840"/>
            <a:ext cx="2801880" cy="3029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-4419720" y="2133720"/>
            <a:ext cx="382284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Uranu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960880" y="1752120"/>
            <a:ext cx="28018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305160" y="1752480"/>
            <a:ext cx="22874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60880" y="1752120"/>
            <a:ext cx="28018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7760" y="1752120"/>
            <a:ext cx="28018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Sun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60880" y="1752120"/>
            <a:ext cx="28018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-4038480" y="1828800"/>
            <a:ext cx="3809880" cy="2981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676520" y="3276720"/>
            <a:ext cx="12697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MERCURY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60880" y="1752120"/>
            <a:ext cx="28018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you weigh 70 pounds on Earth, you would weigh 27 pounds on Mercu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-5257800" y="1600200"/>
            <a:ext cx="3809880" cy="29811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447920" y="2286000"/>
            <a:ext cx="126972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Veni u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60880" y="1752120"/>
            <a:ext cx="28018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3736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arth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60880" y="1752120"/>
            <a:ext cx="28018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048120" y="1963800"/>
            <a:ext cx="2801880" cy="39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Mar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60880" y="1752120"/>
            <a:ext cx="28018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048120" y="2351160"/>
            <a:ext cx="2801880" cy="3146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838080" y="990720"/>
            <a:ext cx="186696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Asteroid Bel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7760" y="1752120"/>
            <a:ext cx="28018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60880" y="1752120"/>
            <a:ext cx="28018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Jupiter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960880" y="1752120"/>
            <a:ext cx="28018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048120" y="1913040"/>
            <a:ext cx="280188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Saturn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60880" y="1752120"/>
            <a:ext cx="28018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048120" y="2351160"/>
            <a:ext cx="280188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18:14:45Z</dcterms:created>
  <dc:creator>Kraybill Campus LMS</dc:creator>
  <dc:description/>
  <dc:language>en-US</dc:language>
  <cp:lastModifiedBy>Kraybill Campus LMS</cp:lastModifiedBy>
  <dcterms:modified xsi:type="dcterms:W3CDTF">2012-05-01T18:47:35Z</dcterms:modified>
  <cp:revision>6</cp:revision>
  <dc:subject/>
  <dc:title>The solar system</dc:title>
</cp:coreProperties>
</file>