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19E1-7058-4025-9FD5-544C1CF32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C104-143E-4045-A86C-0A5EDE167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A385-6407-42E8-98F3-1E665F0E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35C3-6967-4509-A106-A1ADC8FDE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8024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123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77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98024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123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567D-0767-46F5-A0E9-8CDBF700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5883-C17A-4CB0-AA54-2454E98D4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821E-2713-4EAB-A39D-A689B2B0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1492-DE4C-43B1-907B-1843109F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369A-DBB6-420A-A872-CBBA4F4A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8F8C-D2F8-4B91-96A4-204FD104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938F-D3AE-4401-80F8-1CE50AF3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5534-6328-4DC8-9BB0-54244A9D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9F7E-3622-4D36-8BD4-2538CDBA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3E49-6ABF-43C2-86B4-EFD57EFF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9217-3D10-496C-8FC9-74DB8A92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4612-8AA8-442E-8E7F-19748B22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C741-1B48-4D32-B470-0BCE2B16E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8024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123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77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98024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123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53F4-4741-4D9D-BE77-36AF532E3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0E32-DEAF-4509-B221-A4F35611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0F49-782E-4CF0-BB11-75969F7D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CC48-3B74-472C-92AF-1599DD22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CBAF-DF91-49EF-9B93-149714FE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63D8-8455-48EF-B160-AFE06506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331D-104A-4E63-9B23-58FACE34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884D-057E-4C07-B88F-220C132B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3921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327636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F486-6AFC-4D8C-866F-15A252361607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440" y="1066680"/>
            <a:ext cx="579132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8520"/>
            <a:ext cx="3048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1DEE-2BEC-40ED-87A5-2504B92C610E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26bff"/>
                </a:solidFill>
                <a:latin typeface="Bodoni SvtyTwo SC ITC TT-Book"/>
              </a:rPr>
              <a:t>The solar system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581280" y="3886200"/>
            <a:ext cx="518184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Brendan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eptune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96088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7200" y="2535120"/>
            <a:ext cx="3809880" cy="33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Pluto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96088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048120" y="2409840"/>
            <a:ext cx="2801880" cy="3029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-4419720" y="2133720"/>
            <a:ext cx="382284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Uranu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96088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305160" y="1752480"/>
            <a:ext cx="22874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6088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776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Sun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6088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-4038480" y="1828800"/>
            <a:ext cx="3809880" cy="2981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676520" y="3276720"/>
            <a:ext cx="1269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MERCURY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6088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you weigh 70 pounds on Earth, you would weigh 27 pounds on Mercu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-5257800" y="1600200"/>
            <a:ext cx="3809880" cy="2981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447920" y="2286000"/>
            <a:ext cx="12697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Veni u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6088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3736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arth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6088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048120" y="1963800"/>
            <a:ext cx="2801880" cy="39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Mar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6088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048120" y="2351160"/>
            <a:ext cx="2801880" cy="3146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838080" y="990720"/>
            <a:ext cx="186696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Asteroid Bel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776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6088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Jupiter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6088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048120" y="1913040"/>
            <a:ext cx="280188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Saturn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6088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048120" y="2351160"/>
            <a:ext cx="280188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8:14:45Z</dcterms:created>
  <dc:creator>Kraybill Campus LMS</dc:creator>
  <dc:description/>
  <dc:language>en-US</dc:language>
  <cp:lastModifiedBy>Kraybill Campus LMS</cp:lastModifiedBy>
  <dcterms:modified xsi:type="dcterms:W3CDTF">2012-05-01T18:47:35Z</dcterms:modified>
  <cp:revision>6</cp:revision>
  <dc:subject/>
  <dc:title>The solar system</dc:title>
</cp:coreProperties>
</file>