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8BC1-CC30-4E9C-9B28-3DF40234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8DE-851C-49B4-BF94-5C85C5C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2DE-3243-4CB0-AA3C-95335BE3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7F7-1A4B-4DE2-B0D2-C327E598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D96-10C1-4C3B-A1C6-678E5D82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5FA-3519-49B6-953E-29472091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0383-F21E-4A45-AD97-6659B227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D796-BA6A-4DC0-BFAB-CA547DF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3E4E-FC72-46B8-AA99-4B22E325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BEE-38A0-4CA9-8F5E-483D99A4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E23-0072-49CF-B0C4-3FB12529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B71B-BC1F-4EAF-882C-FF395EE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1A0-E1C8-49F6-8C22-0BB86769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7DCF-8BCF-4EE0-8CE0-25AFDF5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666-D103-4557-92E4-A4F151CB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E64C-098D-46BD-85A4-0605228F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27C4-8FF0-4D09-9FB9-B1946DA8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E63-84FB-4571-8845-AB33E5DD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F2C-AAA7-438C-910E-4CB7003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166-E56A-4B4D-B16A-5E4083F7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EB2-CC93-47B8-9C97-A554B55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246-45A5-4383-AD1F-8664A663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594-3652-4DE5-BC78-07B37A7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FA6-9212-4082-9F77-78DC250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2B3-DAC1-4C55-8792-3693EF78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12C0-5E5B-454E-8E2C-51B24A35D4C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990-AD86-4A75-A5F0-3ED62EA677D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6bff"/>
                </a:solidFill>
                <a:latin typeface="Bodoni SvtyTwo SC ITC TT-Book"/>
              </a:rPr>
              <a:t>The solar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Brendan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380988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409840"/>
            <a:ext cx="28018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4419720" y="2133720"/>
            <a:ext cx="3822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05160" y="1752480"/>
            <a:ext cx="228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038480" y="18288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1269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eigh 70 pounds on Earth, you would weigh 27 pounds on Merc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257800" y="16002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47920" y="2286000"/>
            <a:ext cx="1269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Veni 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1963800"/>
            <a:ext cx="28018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1866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steroid Bel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913040"/>
            <a:ext cx="28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4:45Z</dcterms:created>
  <dc:creator>Kraybill Campus LMS</dc:creator>
  <dc:description/>
  <dc:language>en-US</dc:language>
  <cp:lastModifiedBy>Kraybill Campus LMS</cp:lastModifiedBy>
  <dcterms:modified xsi:type="dcterms:W3CDTF">2012-05-01T18:47:35Z</dcterms:modified>
  <cp:revision>6</cp:revision>
  <dc:subject/>
  <dc:title>The solar system</dc:title>
</cp:coreProperties>
</file>